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ox-and-whisker plot, showing the read-depths across the targeted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Number of patients with variants in each of the sarcomeric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ercentage of patients with rare variants in hypertrophic cardiomyopathy/dilated cardiomyopathy associated genes. This figure is only reproduced in colour in the online ver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Rare nsSNPs frequency comparison between our sequencing results and a set of 1287 UK controls with exome sequence data generated by the UK10K project (http://www.uk10k.org) for the eight sarcomere genes most commonly associated with hypertrophic cardiomyopathy. nsSNP: non-synonymous single nucleotide polymorphism. The frequency of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MYH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MYBPC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TNNT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an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TNNI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candidate nsSNPs is significantly higher in our cohort, as also shown in table 5. This figure is only reproduced in colour in the online ver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netic complexity in hypertrophic cardiomyopathy revealed by high-throughput seque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Luis R Lopes, Anna Zekavati, Petros Syrris, Mike Hubank, Claudia Giambartolomei, Chrysoula Dalageorgou, Sharon Jenkins, William McKenna, , Vincent Plagnol, and Perry M Ellio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J Med Ge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50(4):228-23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arch 13,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3 by BMJ Publishing Group Lt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ox-and-whisker plot, showing the read-depths across the targeted ge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39800" y="1882800"/>
            <a:ext cx="8604360" cy="3786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398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uis R Lopes et al. J Med Genet 2013;50:228-2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3 by BMJ Publishing Group Lt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umber of patients with variants in each of the sarcomeric ge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23920" y="1079640"/>
            <a:ext cx="7837560" cy="539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2392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uis R Lopes et al. J Med Genet 2013;50:228-2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3 by BMJ Publishing Group Lt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ercentage of patients with rare variants in hypertrophic cardiomyopathy/dilated cardiomyopathy associated gen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63560" y="1079640"/>
            <a:ext cx="8556480" cy="5394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6356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uis R Lopes et al. J Med Genet 2013;50:228-2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3 by BMJ Publishing Group Lt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420840"/>
            <a:ext cx="936288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are nsSNPs frequency comparison between our sequencing results and a set of 1287 UK controls with exome sequence data generated by the UK10K project (http://www.uk10k.org) for the eight sarcomere genes most commonly associated with hypertrophic cardiomyopathy. nsSNP: non-synonymous single nucleotide polymorphis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71640" y="1079640"/>
            <a:ext cx="8143920" cy="5394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7164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uis R Lopes et al. J Med Genet 2013;50:228-2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3 by BMJ Publishing Group Lt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